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7FA2-7183-48B8-9D9A-D0B32462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1524-8549-41B7-841E-3B456ED7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4835-2CCA-4900-B405-180F59FD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A2E5-4A8F-4882-9801-6439BC482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5839-A18B-43DB-A243-AABA6AD4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F44D-D4AE-49A7-9718-D513BC19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1287-0053-4517-99B6-3390550E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3283-DD69-4650-89DE-82F1A840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AD2A-A0B0-472E-A3A6-2891B12C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4C1-7FC7-4EB2-9F43-13906E3F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73F5-D0F1-485D-BE17-FA0B28CB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C69F-159C-4832-AD99-CB4359D3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6EB6-CD5C-4FF7-B474-0766AB4A4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666880" y="1143000"/>
            <a:ext cx="3800520" cy="4419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332880" y="1668600"/>
            <a:ext cx="18954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500" spc="-1" strike="noStrike">
                <a:solidFill>
                  <a:srgbClr val="000000"/>
                </a:solidFill>
                <a:latin typeface="Century Gothic"/>
              </a:rPr>
              <a:t>E</a:t>
            </a:r>
            <a:endParaRPr b="0" lang="en-US" sz="2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2590920" y="1676520"/>
            <a:ext cx="39621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523880" y="1523880"/>
            <a:ext cx="60962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Century Gothic"/>
              </a:rPr>
              <a:t>am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2906640" cy="4071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2684520" cy="4062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971800" y="1447920"/>
            <a:ext cx="32004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5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387960" y="1668600"/>
            <a:ext cx="18954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5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728160" y="1668600"/>
            <a:ext cx="18954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500" spc="-1" strike="noStrike">
                <a:solidFill>
                  <a:srgbClr val="000000"/>
                </a:solidFill>
                <a:latin typeface="Century Gothic"/>
              </a:rPr>
              <a:t>C</a:t>
            </a:r>
            <a:endParaRPr b="0" lang="en-US" sz="2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629880" y="1668600"/>
            <a:ext cx="18954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500" spc="-1" strike="noStrike">
                <a:solidFill>
                  <a:srgbClr val="000000"/>
                </a:solidFill>
                <a:latin typeface="Century Gothic"/>
              </a:rPr>
              <a:t>D</a:t>
            </a:r>
            <a:endParaRPr b="0" lang="en-US" sz="2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21:17:41Z</dcterms:created>
  <dc:creator>Chris Mclemore</dc:creator>
  <dc:description/>
  <dc:language>en-US</dc:language>
  <cp:lastModifiedBy>Help Desk</cp:lastModifiedBy>
  <dcterms:modified xsi:type="dcterms:W3CDTF">2009-09-09T21:17:02Z</dcterms:modified>
  <cp:revision>3</cp:revision>
  <dc:subject/>
  <dc:title>PowerPoint Presentation</dc:title>
</cp:coreProperties>
</file>